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68E-BD26-4474-926E-9AD54017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3EE-3096-4BD4-B438-FC108308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3BA-069E-439B-B85A-BDB1C71A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F5E-8E8E-42BB-B3BB-5A0B5E38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816-8B15-4BAC-94F6-31ECDE73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D08-7900-4C0D-A50F-5EE9D691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959-1691-4D68-9F9B-BC9BEC07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7E7-3FB5-4758-A3D6-D6CA2D99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D18-AF25-4E49-8B57-294BC527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8F4-DD01-4F9F-9DE1-64EA7641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463-D842-4306-9805-66E483C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D2D-670D-450F-BAC4-CEE4491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AD64-5C70-4573-ACC7-5C14504E5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A840-E76C-47D9-B4BA-ED79FE8795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66852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начальный момент времени (например, после подачи питания на маршрутизаторы) таблица маршрутов в узле  выглядит следующим образом (т.к. узел  знает только о тех сетях, к которым подключен непосредственно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ледовательно, узел  рассылает в сети А и В вектор расстояний (А=1,В=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5CB-AC20-43BD-B796-3BE054188A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750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скольку сети C и D вовсе не фигурируют в его таблице маршрутов, они туда вносятся. В узле  име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D=2à 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1093320"/>
            <a:ext cx="79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еть Е в таблице узла  отсутству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3à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C773-B4A4-4799-B425-12CD03F8CE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674640"/>
            <a:ext cx="80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Итоговая таблица маршрутов маршрутизатора 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4F8A-25BA-4761-9B1C-CCADB422A9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88560"/>
            <a:ext cx="78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ыясним, что происходит в случае, когда состояние системы неожиданно изменяется, например, маршрутизатор  отключается от сети 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11280" y="3033720"/>
            <a:ext cx="64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C95C-29D0-4855-A0D7-6D3D1DB455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6360" y="69480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6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построенный на основании этой таблицы, рассылается в сеть В, чтобы маршрутизаторы, направлявшие свои данные через  в ставшие недоступными сети, если таковые маршрутизаторы существуют, соответственно изменили свои маршрутные табл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4C59-E05D-4D19-B0D4-0198E57B34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87300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узле ƒ имелась следующая таблица маршру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A1D2-FAB5-4BD0-9E1B-08DF25C92E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6360" y="88596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Таким образом, узел  построил маршруты в обход поврежденного участка и восстановил достижимость всех се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DA29-E408-4318-BF20-8D3D5E1BAF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68012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2. Особые случа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цик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. Счет до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EA2D-A06A-481F-B752-B623EEB222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000" y="403920"/>
            <a:ext cx="78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50920" y="2060640"/>
            <a:ext cx="71661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ahoma"/>
              </a:rPr>
              <a:t>Протокол R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C787-3594-47B3-B421-7A8E99A8AF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327600"/>
            <a:ext cx="87123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ƒ отправлял дейтаграммы в сеть А через  , то есть таблица в узле ƒ имела ви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2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осле отсоединения  от сети А узел ƒ получает от  вектор (A=16,B=1,C=16,D=16,E=2). Проанализировав этот вектор, ƒ делает вывод, что все указанные в нем расстояния больше значений, содержащихся в его маршрутной таблице, на основании чего этот вектор узлом ƒ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77CE-29AB-4458-944D-A56764BC3C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792000"/>
            <a:ext cx="7921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Очевидно, после этого содержимое таблиц узлов  и ƒ стабилизируется.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86D9-90CB-4E63-BDE6-E4B539FEF0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-7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чет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1449360"/>
            <a:ext cx="69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BC97-B8D1-4644-9858-1ABAE4E2E8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40680"/>
            <a:ext cx="774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ервоначально сеть А была подсоединена к узлу‚ но в какой-то момент времени произошла авария и сеть А оказалась изолирова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о момента аварии маршрутизаторы имели следующие записи относительно сети 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‚ А=1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„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медленно после аварии запись в таблице маршрутов узла А изменяется на А=16à ‚ , это говорит о том, что сеть А недостижима, а точнее, что сеть А через узел ‚ недостижим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16E1-695E-4788-B5BF-E536F6067B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640" y="1736640"/>
            <a:ext cx="80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рассылаемый из ‚ , с элементом A=16 достигает узла ƒ , но по какой-то причине задерживается на пути в „ . Согласно дополнениям к алгоритму рассылки векторов расстояний, приведенным в предыдущем пункте, узел ƒ вносит в свою таблицу запись А=16à ‚ и рассылает вектор с элементом А=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25F-10C9-4F04-B554-E9EEBDCA1B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2546280"/>
            <a:ext cx="78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этот момент узел „ , до которого сообщение от узла ‚ о недостижимости сети А еще не дошло, рассылает в сети Е свой вектор с элементом А=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2AF2-0681-403E-9757-A49024697D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7400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Узел ‚ , руководствуясь теми же соображениями, что и узел ƒ ранее, модифицирует свою таблицу: А=4à ƒ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1773720"/>
            <a:ext cx="79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получает этот вектор, прибавляет к расстоянию 1 и замечает, что оно меньше записанного в таблице (бесконечность), следовательно, в таблице маршрутов узла ƒ появляется запись А=3à „ . Вектор расстояний с элементом А=3 рассылается узлом ƒ в сети С и достигает узла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1480680"/>
            <a:ext cx="79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мерно в это время узел „ получает наконец-то вектор А=16, отправленный после аварии узлом ‚ , но вслед за этим из узла ‚ приходит вектор А=4, который узел ‚ рассылает в сети D. Поскольку „ отправляет дейтаграммы в сеть А через ‚ , он обязан реагировать на любые объявления узлом ‚ расстояния до сети А. Поэтому в таблице узла „ появляется А=5à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47640" y="740160"/>
            <a:ext cx="795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3. 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уществуют две версии протокола RIP: RIP-1 и RIP-2. Версия 2 имеет некоторые усовершенствования, как то: возможность маршрутизации сетей по модели CIDR (кроме адреса сети передается и маска), поддержка мультикастинга, возможность использования аутентификации RIP-сообщений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7640" y="1770840"/>
            <a:ext cx="8137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лгоритм построения таблицы маршру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обые случа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75920"/>
            <a:ext cx="795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Типы и формат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протоколе RIP имеются два типа сообщений, которыми обмениваются маршрутиза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твет (response) - рассылка вектора расстоя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прос (request) - маршрутизатор (например, после своей загрузки) запрашивает у соседей их маршрутные таблицы или данные об определенном маршру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мен сообщениями происходит по порту 520 UD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58920" y="1587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сообщений обоих типов одинаков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030680" y="2239200"/>
            <a:ext cx="1108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RIP packet format"/>
          <p:cNvPicPr/>
          <p:nvPr/>
        </p:nvPicPr>
        <p:blipFill>
          <a:blip r:embed="rId1"/>
          <a:stretch/>
        </p:blipFill>
        <p:spPr>
          <a:xfrm>
            <a:off x="503280" y="1449360"/>
            <a:ext cx="831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76360" y="72576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Command" определяет тип сообщения: 1 - request, 2 - response; поле "Version" - версию протокола (1 или 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Address Family Identifier" содержит значение 2, которое обозначает семейство адресов IP; другие значения не определены. Поля "IP address" и "Metric" содержат адрес сети и расстояние до 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1089000"/>
            <a:ext cx="82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 получении сообщения типа "ответ" для каждого содержащегося в нем элемента вектора расстояний модуль RIP выполняет следующие дей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 корректность адреса сети и маски, указанных в сообщ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, не превышает ли метрика (расстояние до сети) бес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корректный элемент игнориру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20174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если метрика меньше бесконечности, она увеличивается на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изводится поиск сети, указанной в рассматриваемом элементе вектора расстояний, в таблице маршру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413000"/>
            <a:ext cx="79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запись о такой сети в таблице маршрутов отсутствует и метрика в полученном элементе вектора меньше бесконечности, сеть вносится в таблицу маршрутов с указанной метрикой; в поле "Следующий маршрутизатор" заносится адрес маршрутизатора, приславшего сообщение; запускается таймер для этой записи в табли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9280" y="1917720"/>
            <a:ext cx="795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искомая запись присутствует в таблице с метрикой больше, чем объявленная в полученном векторе, в таблицу вносятся новые метрика и, соответственно, адрес следующего маршрутизатора; таймер для этой записи переза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280" y="1197000"/>
            <a:ext cx="7920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сли искомая запись присутствует в таблице и отправителем полученного вектора был маршрутизатор, указанный в поле "Следующий маршрутизатор" этой записи, то таймер для этой записи перезапускается; более того, если при этом метрика в таблице отличается от метрики в полученном векторе расстояний, в таблицу вносится значение метрики из полученного ве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 во всех прочих случаях рассматриваемый элемент вектора расстояний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7280" y="29844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щий порядок действий при конфигурировании модуля RIP следующ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, какие сети, подключенные к маршрутизатору, будут включены в RIP-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nonbroadcast networks", т.е. сети со статической маршрутизацией (например, тупиковые сети, подсоединенные к внешнему миру через единственный шлюз), куда не нужно рассылать векторы расстоя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permanent routes" - статические маршруты, например, маршрут по умолчанию за пределы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1341360"/>
            <a:ext cx="777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айте сравнительную характеристику протоколов RIP и OSPF. Определите область применения каждого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 какому типу протокола маршрутизации относиться 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часто распространяется вектор расстояний в RIP системе по умолча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Исключительные ситуации в RIP системе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отличие версии протокола RIP-1 от RIP-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D4F6-F280-40DB-9BF5-EA8D4E8043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83360"/>
            <a:ext cx="817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токол RIP является дистанционно-векторным протоколом внутренней маршрутизации. Процесс работы протокола состоит в рассылке, получении и обработке векторов расстояний до IP-сетей, находящихся в области действия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3119-A211-423C-8F6F-4CE743B3E0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933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зультатом работы протокола на конкретном маршрутизаторе является таблица, где для каждой сети данной RIP-системы указано расстояние до этой сети (в хопах) и адрес следующего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B693-220D-400B-AAE8-C5C17314D6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0432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Алгоритм построения таблицы маршр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=2à 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означает, что расстояние от данного маршрутизатора до сети А равно 2, а дейтаграммы, следующие в сеть А, надо пересылать маршрутизатору ƒ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3A03-1D99-49ED-BA00-75929201E5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640" y="193320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ектором расстояний называется набор пар ("Сеть", "Расстояние до этой сети"), извлеченный из таблицы маршру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о элементом вектора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D91C-33BB-44DF-8414-83C596B04B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170028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, на котором запущен модуль RIP, периодически широковещательно распространяет свой вектор расстояний. Вектор распространяется через все интерфейсы маршрутизатора, подключенные к сетям, входящим в RIP-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 также периодически получает векторы расстояний от других маршрутизаторов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77DE-13B0-4704-B5BA-4A403FD4FA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60280"/>
            <a:ext cx="81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Пример построения таблицы маршр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десь  , ‚ , ƒ , „  - маршрутизаторы, A, B, C, D, E - сети. Хосты в сетях не показаны за ненадобностью. Мы будем следить за формированием таблицы маршрутов в узле 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709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48Z</dcterms:modified>
  <cp:revision>148</cp:revision>
  <dc:subject/>
  <dc:title>Lecture Template </dc:title>
</cp:coreProperties>
</file>